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FA7-5C5D-43EE-A803-F274AAA6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0AD-D9AA-412A-A2E6-EC254F9C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89F-8C5F-4E35-A3EF-3BF8F914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C39-66BF-4B57-923A-5B41F8B4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CC1D-0E6B-461D-8AC7-DA2805BF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F891-EFBA-4605-A378-23CD205D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899C-7368-420A-8A40-BBE16F3C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D907-7BBB-423F-955A-844E6A4D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0C4E-3714-401D-99C5-08A1A86C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8F5A-3D4C-44D7-BAD1-1265FAF2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0E14-0424-476B-A0F1-7FA630D0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D46-A094-4569-872F-004F0030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B01F-7E74-450E-9084-2CB7E4F8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02F4-FFA3-4543-9EBC-152C0D28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0430-81AC-45DF-80AF-7A9C9CC0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F1CD-C759-44C0-9841-4D4744E5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8E21-1322-4CA2-B5A4-CBD0DADB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050A-BFEC-4465-A43E-CC47F4E2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438-6E3D-4688-8058-0D8C151F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0A5-7EE9-4B43-97E0-5AEC2905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AC6-314E-4B0C-9BC2-F36D5AB2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9F8-2611-4883-AACD-B8252A4E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009-4ADD-4CED-BAFF-1E37C61E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72E-0FBD-4631-90AC-D91D3816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9E38-6B15-4474-9947-8CE39C365BF4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6166-4D94-48E1-84DC-F475E95B509F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imes New Roman"/>
              </a:rPr>
              <a:t>PSICHIKOS SAMPRATA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, SĄMONĖ,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NARKOTIKAI IR SĄMONĖ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aktyvios medžiagos (pagal poveikį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timuliuoj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lopin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aliucinoge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RIKLAUSOMYBĖ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liguistas potraukis vartoti narkotines medžiagas komforto būklei pasie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FIZ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viso organizmo funkcinės veiklos pakitimas, pasireiškiantis ryškiais psichiniais ir fiziniais sutrikimais, staiga nustojus vartoti narkotik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KLAUSOMYBĖS VYSTYMOSI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minuoja euforizuojantis poveikis, negatyvūs padariniai neįvertinam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arkotikų veikiamas asmuo jaučia laisvę nuo baimės ir padidėjusį savigarbos jausm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eigiamas narkotikų poveikis iš lėto mažėja, norint pasiekti tą patį poveikį reikia didinti doz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oblemos neigiamos. Atminties, dėmesio sutrikim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iklausomybės fazėje atsiranda smarkus dozės didinimas, kontrolės praradimas, santykių nutraukimas ir profesinio lygio smukima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Chroniškoje nykimo stadijoje aiškiai suprastėja narkotikų įsisavinimas. To pagrindas – prasidedantis organų pažeid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mogaus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tai daugybės tikrovės atspindėjimo ir žmogaus elgsenos reguliavimo reiškinių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uma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: sąmonė ir pasąmon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 apibrėžiama kaip nuolatinis minčių, jausmų ir suvokimų srautas, kurį protarpiais įsisąmoniname (atrankinis dėmesy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s būsenos: budri ir pakitusios sąmonės būse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kelti sąmonės pokyč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kų sukeltos būse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iego kategorijos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 (Rapid eye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lus mi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S BŪSENOS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ir sapnai. Miego faz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Atsipalaidavimo būsenoje, tačiau dar būdraujant, smegenų elektrinės bangos vadinamos alfa bangomi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ukrenta širdies dažnis, temperatūra, spaudimas. Bangose išryškėja </a:t>
            </a:r>
            <a:r>
              <a:rPr b="0" i="1" lang="lt-LT" sz="2300" spc="-1" strike="noStrike">
                <a:solidFill>
                  <a:srgbClr val="000000"/>
                </a:solidFill>
                <a:latin typeface="Arial"/>
              </a:rPr>
              <a:t>miego verpstė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Pereinamoji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iliojo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REM (rapid eyes movements)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Miego stadijų kaita nakties metu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2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o sutriki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emi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rkolepsi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iego apnė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ktinis siaub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nių medžiagų sukelti pokyč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0:42:46Z</dcterms:created>
  <dc:creator>TADAS</dc:creator>
  <dc:description/>
  <dc:language>en-US</dc:language>
  <cp:lastModifiedBy> </cp:lastModifiedBy>
  <dcterms:modified xsi:type="dcterms:W3CDTF">2007-08-30T15:15:34Z</dcterms:modified>
  <cp:revision>12</cp:revision>
  <dc:subject/>
  <dc:title>Slide 1</dc:title>
</cp:coreProperties>
</file>